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F475-08FB-4670-9EC4-FF7A63098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ตัวยึดหมายเลขภาพนิ่ง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B650-58DE-49ED-8DF1-A0C018EFC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ตัวยึดหมายเลขภาพนิ่ง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5797-2013-4356-B564-B9A2E9411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ตัวยึดหมายเลขภาพนิ่ง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C626-F642-4A66-915D-286E468A3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CE9-D215-4A29-B204-2D4F35DB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DF5-A7EE-4CAC-9FCB-16CADF4D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451-B151-4B8F-A1C5-06B1B6D0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230-D6DC-447D-A15D-B27C9F5B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103-311D-45B5-A2CB-C53795FB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546-60B9-4929-A076-E2E4DAFC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3081-2772-4E1E-899E-7F474D76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6C2-CFA9-437E-9BAA-7A69A052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4ED-C183-4800-B77E-637FB589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A56-3275-40B0-84F0-D91CF44C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43E-96AE-4E81-B8D4-77B178CD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54A-FB17-4F4F-90BE-AD83321E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39EA-15BE-4F3F-AB3F-743840DB7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Tahoma"/>
                <a:cs typeface="Tahoma"/>
              </a:rPr>
              <a:t>กลุ่ม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71760" y="2071800"/>
            <a:ext cx="6400800" cy="1752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Tahoma"/>
                <a:cs typeface="Tahoma"/>
              </a:rPr>
              <a:t>การพัฒนานักศึกษ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Calibri"/>
                <a:cs typeface="Angsana New"/>
              </a:rPr>
              <a:t>ปัจจัยความสำเร็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จัดกิจกรรมเพื่อพัฒนานักศึกษา  เช่น  มีองค์การนักศึกษา ตั้งชมรมนักศึกษ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จัดตั้งคณะกรรมการ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หน่วยงานที่ดูแลนักศึกษา เช่น ฝ่ายพัฒนานักศึกษา  อาจารย์ที่ปรึกษา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พัฒนาบุคลากร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ea typeface="Cordia New"/>
              </a:rPr>
              <a:t>/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เจ้าหน้าที่ที่ดูแลนักศึกษ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บูรณการด้านวิชาการและกิจกรรมนักศึกษาเข้าด้วยกั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Calibri"/>
                <a:ea typeface="Cordia New"/>
              </a:rPr>
              <a:t>     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เช่น สอดแทรกในการเรียนการสอน  มีรายวิชากิจกรรม              กำหนดหน่วยกิตของกิจกรร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สร้างแรงจูงใจ เช่น  สนับสนุนงบประมาณในการจัดกิจกรรมให้นักศึกษา จัดเวทีให้นักศึกษาแสดงผลงา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Calibri"/>
                <a:cs typeface="Angsana New"/>
              </a:rPr>
              <a:t>ปัจจัยความสำเร็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th-TH" sz="3200" spc="-1" strike="noStrike">
                <a:solidFill>
                  <a:srgbClr val="000000"/>
                </a:solidFill>
                <a:latin typeface="Calibri"/>
                <a:cs typeface="Cordia New"/>
              </a:rPr>
              <a:t>ผู้บริหารให้ความสำคัญและสนับสนุนในการจัดกิจกรรมกับนักศึกษ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th-TH" sz="3200" spc="-1" strike="noStrike">
                <a:solidFill>
                  <a:srgbClr val="000000"/>
                </a:solidFill>
                <a:latin typeface="Calibri"/>
                <a:cs typeface="Cordia New"/>
              </a:rPr>
              <a:t>มีเครื่องมือในการเก็บข้อมูลนักศึกษาที่เข้าร่วมกิจกรรม เช่น แบบฟอร์ม สมุดบันทึกการเข้าร่วมกิจกรรม เครื่องสแกนนิ้วมื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30:14Z</dcterms:created>
  <dc:creator>Valued Acer Customer</dc:creator>
  <dc:description/>
  <dc:language>en-US</dc:language>
  <cp:lastModifiedBy>Valued Acer Customer</cp:lastModifiedBy>
  <dcterms:modified xsi:type="dcterms:W3CDTF">2010-03-22T08:59:02Z</dcterms:modified>
  <cp:revision>8</cp:revision>
  <dc:subject/>
  <dc:title>กลุ่ม 2</dc:title>
</cp:coreProperties>
</file>